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2C0-485B-472F-A788-647BB028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D49-6A84-47D3-BDB8-B999B3A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811-3C22-40B7-8980-26D01608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24B-580F-46F9-A8BD-5DA286C3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E975-0924-424F-809B-E1BBD288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316E-DDEF-4461-9F96-74C058E4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948-D12D-40E3-81A4-DCD90A7C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73C2-ED70-4822-ADD8-E570E42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C9F0-A311-4E36-BA34-C174EC1F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5E2-059F-41C2-B8AE-0D2BB2D7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B9A-3495-443F-9B95-47FB9E5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ADC-126B-4233-AAE0-4F0CD4F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F1A-7654-4179-A654-19999336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9FF3-0CBF-4DC1-B398-73D2F15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FD1D-94EA-4968-8E88-B9966300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FAE-AE41-40CF-BFCE-F1A55F12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D3C-FCBB-4949-AEDF-DDDB9975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4CA-E20F-4CF9-9305-EBC4FEF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179-89A7-4D06-A4DD-6A0276F0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4C2-3754-4F6A-8F91-B18E4291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3961-6081-4523-BD5C-625F14B5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199-46B1-47B4-9DDF-712F6E0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221-EB4B-4C2B-BD09-3260490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1F7-755F-403E-8882-93343D4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811D-625B-418C-8EB5-28716FC111B9}" type="slidenum">
              <a:rPr b="0" lang="en-CA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523e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23e26"/>
                </a:solidFill>
                <a:latin typeface="Times New Roman"/>
              </a:rPr>
              <a:t>May 15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034-59CF-4243-969F-594206E131B4}" type="slidenum">
              <a:rPr b="0" lang="en-CA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1280" y="3860280"/>
            <a:ext cx="58024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a1d"/>
                </a:solidFill>
                <a:latin typeface="Arial Black"/>
              </a:rPr>
              <a:t>CADE-OLT Project Update</a:t>
            </a:r>
            <a:r>
              <a:rPr b="1" lang="en-US" sz="2800" spc="-1" strike="noStrike">
                <a:solidFill>
                  <a:srgbClr val="654a1d"/>
                </a:solidFill>
                <a:latin typeface="Arial Black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654a1d"/>
                </a:solidFill>
                <a:latin typeface="Arial Black"/>
              </a:rPr>
              <a:t>Determinants of Institutional Readiness for Distance/ Distributed Learning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240" y="6093000"/>
            <a:ext cx="5638680" cy="7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920" bIns="2592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Common Barrier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Rapid technology change (e.g. hardware, software, network, new unforeseen uses)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Reduced availability of funding for capital and new operational cost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creasing costs of techn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ifferent knowledge and skills required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creased need to multitask and take on new functions yourself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Barriers for Faculty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apid technology change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Lack of appropriate compensation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Lack of tim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nure and promotion dilemma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aching as a public versus private activit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tudent Assessme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nfamiliarity with the pedagogy of the online learning environment (e.g., concerns about quality, preferred face-to-face, etc.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Lack of technical expertis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Barriers for Administration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apid technology chang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Varied definitions, even within an institution – hard to get an inventory of what is really happening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Legal issues (e.g., copyright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Governance and cultures of universities (not colleges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hanges in roles and responsibilities of un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nstant need to change administrative structur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Discussion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o you see other indicators of institutional readiness to develop, deliver, and sustain the provision of distance and distributed learning to meet labour market needs that we have not included?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Do you see other barriers that we have not included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Steps to overcome barrier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hat steps have you used in your institution to overcome the barriers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654a1d"/>
                </a:solidFill>
                <a:latin typeface="Arial Black"/>
              </a:rPr>
              <a:t>CADE-OLT Project Update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ank you! Merci!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Raymond Guy </a:t>
            </a:r>
            <a:br>
              <a:rPr sz="3200"/>
            </a:b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rayguy@borealc.on.ca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Bonnie Luterbach luterbac@cc.umanitoba.ca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Kathleen Matheos matheos@cc.umanitoba.ca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54a1d"/>
                </a:solidFill>
                <a:latin typeface="Arial Black"/>
              </a:rPr>
              <a:t>Project Goal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indicators of organizational readiness to develop, deliver, and sustain the provision of distance and distributed learning to meet labour market needs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indicators of organizational readiness to engage in partnerships with community organizations for the provision of distributed learning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barriers prevent providers from using educational technologies and engaging in partnerships in the use of these technologies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steps can be taken to ameliorate these barriers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Methodology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Review of the literature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Ethic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terviews with 25 senior administrators in Anglophone and Francophone universities and colleg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Qualitative analysi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artnership interview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nline surve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Highlights of Literature Re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c1c1c"/>
                </a:solidFill>
                <a:latin typeface="Arial"/>
              </a:rPr>
              <a:t>Constant and rapid change in technology used in educational environment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c1c1c"/>
                </a:solidFill>
                <a:latin typeface="Arial"/>
              </a:rPr>
              <a:t>Convergence between off-campus and on-campus - services and student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Growth in alternative delivery across Canadian H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unding models for sustaining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54a1d"/>
                </a:solidFill>
                <a:latin typeface="Arial Black"/>
              </a:rPr>
              <a:t>Highlights of Literature Re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lexibility and accessibilit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arner engagemen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Increased focus on the scholarship of teaching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hanging roles re teaching and learn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c1c1c"/>
                </a:solidFill>
                <a:latin typeface="Arial"/>
              </a:rPr>
              <a:t>Increased consortia and collaboration.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Varied definition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54a1d"/>
                </a:solidFill>
                <a:latin typeface="Arial Black"/>
              </a:rPr>
              <a:t>Indicators of Organizational Readines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c1c1c"/>
                </a:solidFill>
                <a:latin typeface="Arial"/>
              </a:rPr>
              <a:t>Pervasive institutional adoption of  technologies (online, interactive and user-based systems) for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Administration (e.g., finance, human resources);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Student affairs (e.g., registration, student portals); an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ducational support services (e.g. library. LMS)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54a1d"/>
                </a:solidFill>
                <a:latin typeface="Arial Black"/>
              </a:rPr>
              <a:t>Indicators of Organizational Readines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c1c1c"/>
                </a:solidFill>
                <a:latin typeface="Arial"/>
              </a:rPr>
              <a:t>Educational technology is: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In place and financially supported and renewed;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c1c1c"/>
                </a:solidFill>
                <a:latin typeface="Arial"/>
              </a:rPr>
              <a:t>Is part of strategic plan, mirrored in departmental plans;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Linked to student engagement in learning (e.g., qualities of a graduate) as a way to improve teaching and learning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ew ways of teaching and learning are part of the strategic academic plan (e.g., use of asynchronous technologies, blended learning).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ppropriate leadership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54a1d"/>
                </a:solidFill>
                <a:latin typeface="Arial Black"/>
              </a:rPr>
              <a:t>Indicators of Organizational Readines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New polici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ransfer cred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sidenc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nure and promo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echnology suppor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1c1c1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roject-based funding leading to sustained funding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54a1d"/>
                </a:solidFill>
                <a:latin typeface="Arial Black"/>
              </a:rPr>
              <a:t>Indicators of Organizational Readines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eam-based development mod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aculty support and professional developme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aculty ownership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23:48:37Z</dcterms:created>
  <dc:creator>luterbac</dc:creator>
  <dc:description/>
  <cp:keywords/>
  <dc:language>en-US</dc:language>
  <cp:lastModifiedBy>matheos</cp:lastModifiedBy>
  <dcterms:modified xsi:type="dcterms:W3CDTF">2008-03-04T23:41:23Z</dcterms:modified>
  <cp:revision>3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776111033</vt:lpwstr>
  </property>
</Properties>
</file>